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4A3D-EB86-44B5-9519-3C3E0E4FBF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58DF-DDEC-4704-A4D9-24D8F2059B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elle navigateur Internet (avec lien programmé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19BE-7604-4BF7-A4F0-41708E0D14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elle navigateur Internet (avec lien programmé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69A-3492-4121-80D6-ADB03D7E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136-46E8-4625-958C-B7DCAEEE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DED-F767-46E2-954F-7AB68E66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13E-0DF1-4D66-AC43-097ECF87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1B2E-D636-459A-994B-2139103C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3941-2BA4-4323-A4E4-E1F844F8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F8C1-8B47-4CCA-8E88-AF54078E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5B65-1E96-433F-AABA-7927F97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52A9-A624-4224-927A-6E8A5F0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D2D8-B276-497B-938A-BF85F241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674B-2B58-40A2-9830-B8286E72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3B7-F417-4E54-8E17-1BD6AD6B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DA92-C244-43A1-BD7D-F423E6F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26A3-33CB-47AE-9896-0C0CA8F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6404-ED42-492A-A4DD-D264756B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086C-0BC7-495E-8281-5004C2DC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B30D-AC0B-4F6A-B0E3-F164A059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BD6-BDE7-49F8-A9D8-7AD4EC6F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652F-94EC-4062-B996-CD32A774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1A74-C0CA-425F-9E14-4F11924B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C9C-344C-424F-A111-D929C508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B65D-968E-4F08-9717-417ABCF6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773-E4D7-4CC2-9916-59F95642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53DD-DCB3-4153-A1FC-61CEC5C6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A893-ED1C-4C56-B529-57A75841A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7">
            <a:hlinkClick r:id="" action="ppaction://hlinkshowjump?jump=previousslide"/>
          </p:cNvPr>
          <p:cNvSpPr/>
          <p:nvPr/>
        </p:nvSpPr>
        <p:spPr>
          <a:xfrm>
            <a:off x="32400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90000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9">
            <a:hlinkClick r:id="" action="ppaction://hlinkshowjump?jump=endshow"/>
          </p:cNvPr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33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7">
            <a:hlinkClick r:id="" action="ppaction://hlinkshowjump?jump=previousslide"/>
          </p:cNvPr>
          <p:cNvSpPr/>
          <p:nvPr/>
        </p:nvSpPr>
        <p:spPr>
          <a:xfrm>
            <a:off x="324000" y="638172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3794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" action="ppaction://hlinkshowjump?jump=nextslide"/>
          </p:cNvPr>
          <p:cNvSpPr/>
          <p:nvPr/>
        </p:nvSpPr>
        <p:spPr>
          <a:xfrm>
            <a:off x="900000" y="6381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>
            <a:hlinkClick r:id="" action="ppaction://hlinkshowjump?jump=endshow"/>
          </p:cNvPr>
          <p:cNvSpPr/>
          <p:nvPr/>
        </p:nvSpPr>
        <p:spPr>
          <a:xfrm>
            <a:off x="8893080" y="6669000"/>
            <a:ext cx="250920" cy="189000"/>
          </a:xfrm>
          <a:custGeom>
            <a:avLst/>
            <a:gdLst>
              <a:gd name="textAreaLeft" fmla="*/ 12240 w 250920"/>
              <a:gd name="textAreaRight" fmla="*/ 238680 w 25092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28663" h="21600">
                <a:moveTo>
                  <a:pt x="0" y="0"/>
                </a:moveTo>
                <a:lnTo>
                  <a:pt x="28663" y="0"/>
                </a:lnTo>
                <a:lnTo>
                  <a:pt x="28663" y="21600"/>
                </a:lnTo>
                <a:lnTo>
                  <a:pt x="0" y="21600"/>
                </a:lnTo>
                <a:close/>
              </a:path>
              <a:path fill="lightenLess" w="28663" h="21600">
                <a:moveTo>
                  <a:pt x="0" y="0"/>
                </a:moveTo>
                <a:lnTo>
                  <a:pt x="28663" y="0"/>
                </a:lnTo>
                <a:lnTo>
                  <a:pt x="27263" y="1400"/>
                </a:lnTo>
                <a:lnTo>
                  <a:pt x="1400" y="1400"/>
                </a:lnTo>
                <a:close/>
              </a:path>
              <a:path fill="darken" w="28663" h="21600">
                <a:moveTo>
                  <a:pt x="28663" y="0"/>
                </a:moveTo>
                <a:lnTo>
                  <a:pt x="28663" y="21600"/>
                </a:lnTo>
                <a:lnTo>
                  <a:pt x="27263" y="20200"/>
                </a:lnTo>
                <a:lnTo>
                  <a:pt x="27263" y="1400"/>
                </a:lnTo>
                <a:close/>
              </a:path>
              <a:path fill="darkenLess" w="28663" h="21600">
                <a:moveTo>
                  <a:pt x="286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63" y="20200"/>
                </a:lnTo>
                <a:close/>
              </a:path>
              <a:path fill="lighten" w="286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3300"/>
                </a:solidFill>
                <a:latin typeface="Arial"/>
              </a:rPr>
              <a:t>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4357800"/>
            <a:ext cx="213372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B483-962F-40A2-93C1-2CA9968D0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214200" y="285840"/>
            <a:ext cx="8358480" cy="521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D95F-ED72-4095-AD45-DF26543F51C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mieux visualiser le problè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50920" y="3429000"/>
            <a:ext cx="518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ur faciliter la démonstration, ne seront intégrées que des pages web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91F-FA51-4FEB-974C-04BD4E08BCE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71640" y="333360"/>
            <a:ext cx="71294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égration navigateur internet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2"/>
          <p:cNvSpPr/>
          <p:nvPr/>
        </p:nvSpPr>
        <p:spPr>
          <a:xfrm>
            <a:off x="3564000" y="6021360"/>
            <a:ext cx="1944720" cy="289080"/>
          </a:xfrm>
          <a:custGeom>
            <a:avLst/>
            <a:gdLst>
              <a:gd name="textAreaLeft" fmla="*/ 18720 w 1944720"/>
              <a:gd name="textAreaRight" fmla="*/ 1926000 w 194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45155" h="21600">
                <a:moveTo>
                  <a:pt x="0" y="0"/>
                </a:moveTo>
                <a:lnTo>
                  <a:pt x="145155" y="0"/>
                </a:lnTo>
                <a:lnTo>
                  <a:pt x="145155" y="21600"/>
                </a:lnTo>
                <a:lnTo>
                  <a:pt x="0" y="21600"/>
                </a:lnTo>
                <a:close/>
              </a:path>
              <a:path fill="lightenLess" w="145155" h="21600">
                <a:moveTo>
                  <a:pt x="0" y="0"/>
                </a:moveTo>
                <a:lnTo>
                  <a:pt x="145155" y="0"/>
                </a:lnTo>
                <a:lnTo>
                  <a:pt x="143755" y="1400"/>
                </a:lnTo>
                <a:lnTo>
                  <a:pt x="1400" y="1400"/>
                </a:lnTo>
                <a:close/>
              </a:path>
              <a:path fill="darken" w="145155" h="21600">
                <a:moveTo>
                  <a:pt x="145155" y="0"/>
                </a:moveTo>
                <a:lnTo>
                  <a:pt x="145155" y="21600"/>
                </a:lnTo>
                <a:lnTo>
                  <a:pt x="143755" y="20200"/>
                </a:lnTo>
                <a:lnTo>
                  <a:pt x="143755" y="1400"/>
                </a:lnTo>
                <a:close/>
              </a:path>
              <a:path fill="darkenLess" w="145155" h="21600">
                <a:moveTo>
                  <a:pt x="145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755" y="20200"/>
                </a:lnTo>
                <a:close/>
              </a:path>
              <a:path fill="lighten" w="145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ualis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WebBrowser1"/>
          <p:cNvGraphicFramePr/>
          <p:nvPr/>
        </p:nvGraphicFramePr>
        <p:xfrm>
          <a:off x="1835280" y="1197000"/>
          <a:ext cx="612144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WebBrows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97000"/>
                    <a:ext cx="6121440" cy="446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E9BC-F13D-406F-8F3A-0EC42B9C0BE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71640" y="333360"/>
            <a:ext cx="720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tégration navigateur interne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564000" y="6021360"/>
            <a:ext cx="1944720" cy="289080"/>
          </a:xfrm>
          <a:custGeom>
            <a:avLst/>
            <a:gdLst>
              <a:gd name="textAreaLeft" fmla="*/ 18720 w 1944720"/>
              <a:gd name="textAreaRight" fmla="*/ 1926000 w 1944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145155" h="21600">
                <a:moveTo>
                  <a:pt x="0" y="0"/>
                </a:moveTo>
                <a:lnTo>
                  <a:pt x="145155" y="0"/>
                </a:lnTo>
                <a:lnTo>
                  <a:pt x="145155" y="21600"/>
                </a:lnTo>
                <a:lnTo>
                  <a:pt x="0" y="21600"/>
                </a:lnTo>
                <a:close/>
              </a:path>
              <a:path fill="lightenLess" w="145155" h="21600">
                <a:moveTo>
                  <a:pt x="0" y="0"/>
                </a:moveTo>
                <a:lnTo>
                  <a:pt x="145155" y="0"/>
                </a:lnTo>
                <a:lnTo>
                  <a:pt x="143755" y="1400"/>
                </a:lnTo>
                <a:lnTo>
                  <a:pt x="1400" y="1400"/>
                </a:lnTo>
                <a:close/>
              </a:path>
              <a:path fill="darken" w="145155" h="21600">
                <a:moveTo>
                  <a:pt x="145155" y="0"/>
                </a:moveTo>
                <a:lnTo>
                  <a:pt x="145155" y="21600"/>
                </a:lnTo>
                <a:lnTo>
                  <a:pt x="143755" y="20200"/>
                </a:lnTo>
                <a:lnTo>
                  <a:pt x="143755" y="1400"/>
                </a:lnTo>
                <a:close/>
              </a:path>
              <a:path fill="darkenLess" w="145155" h="21600">
                <a:moveTo>
                  <a:pt x="1451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3755" y="20200"/>
                </a:lnTo>
                <a:close/>
              </a:path>
              <a:path fill="lighten" w="1451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sualis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WebBrowser1"/>
          <p:cNvGraphicFramePr/>
          <p:nvPr/>
        </p:nvGraphicFramePr>
        <p:xfrm>
          <a:off x="1763640" y="1197000"/>
          <a:ext cx="612144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WebBrowser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197000"/>
                    <a:ext cx="6121440" cy="446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3BB4-1229-4C42-8CDD-438E7D27E90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19640" y="5300280"/>
            <a:ext cx="54720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Voilà, c’est fini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8:05:41Z</dcterms:created>
  <dc:creator>ToTo</dc:creator>
  <dc:description/>
  <dc:language>en-US</dc:language>
  <cp:lastModifiedBy>Developpement</cp:lastModifiedBy>
  <dcterms:modified xsi:type="dcterms:W3CDTF">2008-04-10T03:31:44Z</dcterms:modified>
  <cp:revision>29</cp:revision>
  <dc:subject/>
  <dc:title>Pour mieux visualiser le problème</dc:title>
</cp:coreProperties>
</file>