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0309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5235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030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4030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15235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15235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030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4030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403092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15235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95400"/>
            <a:ext cx="8369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5235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030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5235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40309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152352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03092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333333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333333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14560"/>
            <a:ext cx="9144000" cy="110880"/>
          </a:xfrm>
          <a:prstGeom prst="rect">
            <a:avLst/>
          </a:prstGeom>
          <a:gradFill rotWithShape="0">
            <a:gsLst>
              <a:gs pos="0">
                <a:srgbClr val="d5dfe7"/>
              </a:gs>
              <a:gs pos="100000">
                <a:srgbClr val="82a0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Designing High Performance BIRT Report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Estimated Component Time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880" y="1523880"/>
          <a:ext cx="8305920" cy="4505400"/>
        </p:xfrm>
        <a:graphic>
          <a:graphicData uri="http://schemas.openxmlformats.org/drawingml/2006/table">
            <a:tbl>
              <a:tblPr/>
              <a:tblGrid>
                <a:gridCol w="2905200"/>
                <a:gridCol w="739800"/>
                <a:gridCol w="1679760"/>
                <a:gridCol w="1168200"/>
                <a:gridCol w="1812960"/>
              </a:tblGrid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Report Nam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z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Average (in miliseconds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Differenc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Compare Report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30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,954.4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 Formatte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30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,931.8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-1.16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 Double Page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35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,996.0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.13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 (4 instances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51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201.2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0.28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 Double Page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 (400 instances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69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353.2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7.90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 Double Page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 Sorted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69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207.6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0.60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 Double Page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 Aggregates (2 per group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71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377.6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8.01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 Aggregates (2 per group)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89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542.6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8.05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 Two Pas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4.81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366.4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7.50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 Two Pass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.00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397.6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.89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Chart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.92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607.4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33.41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Single Table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 Chart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6.25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,888.8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31.24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ity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 Chart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21.6 MB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5,704.80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142.43%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5360" indent="-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Group By Customer</a:t>
                      </a:r>
                      <a:endParaRPr b="0" lang="en-US" sz="1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Implication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port generation depends on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number of report item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resence of aggregat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Number of group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orting of data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resence of char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per page depends on output forma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ges per second depends on layou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creasing page break number “doubles” performance!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Key Performance Driver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Number of report item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Number of rows process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resence of aggregat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resence of char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Query or Queries cos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Performance Strategie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se report items-per-second as a guid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latively fixed for a platform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termine a time budge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How many report items can the report afford?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formance strategi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move application-specific bottleneck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ke report items work hard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duce impact of aggregat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How to Analyze Performance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est functionality separatel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rite to a log file timers in key area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llect run ti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move all content from repor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llect run times agai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fference is cost of processing 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port item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mainder is per-row co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2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5811840" cy="150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Performance Tip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General Observation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port optimization is a trial and error effor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Some of the report optimization techniques require additional development time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Not necessary to use these techniques when the reports perform within the user requiremen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  <a:ea typeface="Times New Roman"/>
              </a:rPr>
              <a:t>These techniques should only be used to optimize repor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Use Latest Version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se latest version of BIR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Has many performance improvemen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 not use ‘Total’ fun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ese functions are being deprecated in BIRT 2.2.2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Has some performance issu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specially with filte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Optimize Database Acces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xtra time from queries, DB overhead, computation, etc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inimize query tim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ke sure query is optimiz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duce the number of columns and rows return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duce number of queries need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se stored procedur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se materialized view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Optimize XML Acces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XML is versatile, and powerful to describe meta data and actual data in one fil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BIRT has a “generic” XML ODA which uses an extremely efficient XPath algorithm to parse the resul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eneric” is great to solve a multitude of needs, but lacks to solve a single need very wel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f the XML Schema will not change, and high user loads are required, specialize connectors should be built to improve overall system performan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Topic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nderstanding generation performan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414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xternal facto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414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verhea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414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ifference between e.Reports and BIR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414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stimated Component Tim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414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formance tip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enera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nder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Optimize XML Acces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Java API for XML Binding (JAXB) is a specialized API for Java used to efficiently and quickly parse a fixed schema XML data fil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pside – may be 10x faster than the “generic” XML ODA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wnside – if the XML Schema changes, JAXB classes will need to be re-compil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wnside – no UI exists to create data sets, JAXB classes must be used with a scripted data sour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e same also applies for the Web Services ODA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Filtering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BIRT enables filtering at different layers such as in the tabl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ush filtering to the database (if possible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duces the size of the result se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xtremely important with two pass aggregat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Sorting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hen you add a group section BIRT will automatically sort the dataset in memory.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here is no setting to tell BIRT that the data is already sorted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lways better to push the sort to the databas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Getting caught in a (Data) Bind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s of BIRT 2.1.3 – this will change for a future release with data set cach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Each report item with a specified data binding will force that data set to re-execute for each bind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Bindings will cascade down to contained report items (data  bindings on a table cascade down to items inside the table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 nearly all reports data sets should only have 1 binding specifi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nly extremely complex reports with inter-woven data set requirements will require multiple bindings per data se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Joint Data Sets can be used in some cases to avoid multiple bindings on a single data se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 not bind data sets on the Master Pag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Aggregate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ggregates: Sum( ), Count( ), Min( ), 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wo typ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unning – done while creating the 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ook-ahead - requires two passes over da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r performance, review look-ahead typ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 a stored procedure to do calcul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 a separate que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 a data filter to merge totals into each r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pare to out-of-box solu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Chart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360" y="1523880"/>
            <a:ext cx="73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ood news - Most time spent in rendering (using drawing primitives in swing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ctual code is optimiz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ize and resolution will impact performan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ll points are loaded in memory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void charts with many poin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Little more you can discern in a chart with 10,000 points than in a chart with 500 point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ore points will also take longer to render as there is more to draw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ke sure you use the table binding not the dataset bind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Chart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523880"/>
            <a:ext cx="736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3D charts might take more time as it uses a real 3D algorithm to sort surfac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2d charts with depth have no significant performance impact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rouping inside charts will be the number one point that slows things dow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hart engine uses a different grouping algorithm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roup the data in the data se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BIRT 2.3 will use the DTE grouping capabiliti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void extra markers, labels, shadows, gradients, etc…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ill impact the performance as it means more shapes and fills to draw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General Tip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0360" y="1523880"/>
            <a:ext cx="73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duce number of report items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oncatenate values where makes sens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irst Name + Last Nam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void table data bindings when not us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se new Crosstab report item when appropriate as it is tuned for such operations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Rendering Tip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DF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Set appropriate page size in the master pag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ill significantly decrease dynamic geometr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void group sections with many item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ill cause a long TOC list and will impact viewing performanc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BIRT API Tip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void RunAndRenderTask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emory based mode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unAndRenderTask  will not scal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Understanding Performance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Q &amp; A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Pages-per-Second” Myth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ssumes all reports are equa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gnor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Number of report items per pag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omplexity of the quer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ges are defined at render tim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mpact of aggregates, and more…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ality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report items-per-second is better metric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ges-per-second applies only to same report on different ru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External Factor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tem: CPU, lo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w CPU po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all load in server environme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JV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r expecta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B performan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tabase desig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ery design &amp; optimiz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erformance of vendor’s query featur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etwork overh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Overhead Factor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onstan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JVM overhea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er Quer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onnection tim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Query setup tim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2" marL="9144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Sorting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Selection - Indexed or non-indexed</a:t>
            </a:r>
            <a:endParaRPr b="0" i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Estimated Component Time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Estimated from simple listing using single table (10,000 rows) in SQL Serv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eneration only does not include render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Not scientific methodology (done on a laptop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Your mileage will var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Use your own data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ry in your own environme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cus on specific reports with problem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Estimated Component Time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ges: little to no effec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hanged page break from 200 to 100 --&gt; double pag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s &lt; 2% to report ru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ormatting: little to no effec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ed numeric and date formatt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Was slightly faste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roups: moderate to significa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 two group levels to simple listing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s ~5-20% to report run per group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pends on the number of group break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pends on how the data is sort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dfe7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95400"/>
            <a:ext cx="836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69696"/>
                </a:solidFill>
                <a:latin typeface="Arial"/>
              </a:rPr>
              <a:t>Estimated Component Times</a:t>
            </a:r>
            <a:endParaRPr b="1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ne-pass aggregates: modera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ed two aggregat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s ~4% per aggregate to report ru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pends on number of group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Look-ahead aggregates: significa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otal for group as percent of overall total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dds ~2-8% per aggregate to report ru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pends on number of groups and number of data item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harts: Very significa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ne chart added ~33% to report ru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ne chart per group ~30-150% to report ru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550"/>
              </a:spcBef>
              <a:buClr>
                <a:srgbClr val="0066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epends on number of groups (i.e. charts)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22:36:39Z</dcterms:created>
  <dc:creator>Dan Galatin</dc:creator>
  <dc:description/>
  <dc:language>en-US</dc:language>
  <cp:lastModifiedBy>mblock</cp:lastModifiedBy>
  <dcterms:modified xsi:type="dcterms:W3CDTF">2008-01-18T18:30:40Z</dcterms:modified>
  <cp:revision>45</cp:revision>
  <dc:subject/>
  <dc:title>Performance and Sizing for BIRT Reports and BusinessReports</dc:title>
</cp:coreProperties>
</file>