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834E-19BA-43CB-9E2C-668F9908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C0F2-6D23-47BD-8EBE-5DADCCBD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6D81-D1FC-4A55-B58E-42FE27649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8F2D-18B3-4716-A582-99F7952BD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1ADF-C7B2-411F-9650-E31A1FB2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53C6-9C8F-4685-B394-0EBCF017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00D2-D3B6-4A42-9014-5B9658FB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77C9-179B-4E3D-AAB8-9070BA35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E46C-0DCD-40EA-B987-8A1345A0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B85D-A5FD-47E7-9912-0494DCB6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DF07-726D-4067-8C63-7514744B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906E-A1D6-4AB0-B8E9-1758F72E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573A-928D-401E-9446-10B5BD979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71640" y="633240"/>
          <a:ext cx="7200720" cy="559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633240"/>
                    <a:ext cx="7200720" cy="559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79280" y="189000"/>
            <a:ext cx="23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akt Time : 4mn3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0000" y="189000"/>
            <a:ext cx="33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é produite théorique :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79560" y="636480"/>
          <a:ext cx="7070760" cy="524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9560" y="636480"/>
                    <a:ext cx="7070760" cy="52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179280" y="189000"/>
            <a:ext cx="23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akt Time : 4mn3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80000" y="189000"/>
            <a:ext cx="33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é produite théorique :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979560" y="636480"/>
          <a:ext cx="7070760" cy="524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9560" y="636480"/>
                    <a:ext cx="7070760" cy="52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79280" y="189000"/>
            <a:ext cx="23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akt Time : 4mn3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80000" y="189000"/>
            <a:ext cx="33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é produite théorique :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79560" y="636480"/>
          <a:ext cx="7216560" cy="475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9560" y="636480"/>
                    <a:ext cx="7216560" cy="47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79280" y="189000"/>
            <a:ext cx="23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akt Time : 4mn3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80000" y="189000"/>
            <a:ext cx="33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é produite théorique :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2565360"/>
            <a:ext cx="19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 les 15 derniers %, le défilement se fait en o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979560" y="636480"/>
          <a:ext cx="7216560" cy="475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9560" y="636480"/>
                    <a:ext cx="7216560" cy="47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79280" y="189000"/>
            <a:ext cx="23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akt Time : 4mn3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80000" y="189000"/>
            <a:ext cx="33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é produite théorique :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2565360"/>
            <a:ext cx="19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 les 15 derniers %, le défilement se fait en o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0T08:39:24Z</dcterms:created>
  <dc:creator>David Tanguy</dc:creator>
  <dc:description/>
  <dc:language>en-US</dc:language>
  <cp:lastModifiedBy>David Tanguy</cp:lastModifiedBy>
  <dcterms:modified xsi:type="dcterms:W3CDTF">2010-09-10T15:17:19Z</dcterms:modified>
  <cp:revision>2</cp:revision>
  <dc:subject/>
  <dc:title>Diapositive 1</dc:title>
</cp:coreProperties>
</file>