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396-534B-4F32-82F0-EB66945D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B7B-2202-493F-B6F7-44D990CE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046-3143-4E54-9209-AD471ED4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755-896F-4FFB-AD7E-45ADACBC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E81-1D7E-4528-8DCA-CDBBC994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6CC-3BD7-4091-9D1F-64956A60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446-8FE5-4882-A30D-4CBAA272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CE2-5641-4705-BCC3-94753D15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37A-2F84-4CF4-8D2D-FBA52B68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C47-FC6D-41D5-BAA7-0968A9A2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E1C-A084-4754-AC3F-15A6511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9D1-8E60-4BD2-BBC2-759F5EF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E210-E204-4CF2-9778-E5AA74DA5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9.pn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1880" y="3484440"/>
            <a:ext cx="2601720" cy="17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800" spc="-1" strike="noStrike">
                <a:solidFill>
                  <a:srgbClr val="000000"/>
                </a:solidFill>
                <a:latin typeface="Arial"/>
              </a:rPr>
              <a:t>Ethernet/IP cables and conn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81040" cy="58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2200" y="1484280"/>
            <a:ext cx="79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12 bus connectors, 4-pin, D-coded, customized assembly, shiel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17080" y="6669000"/>
            <a:ext cx="502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2000" y="3664080"/>
            <a:ext cx="1238040" cy="27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913040" y="3668760"/>
            <a:ext cx="2334960" cy="274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246560" y="3662280"/>
            <a:ext cx="2324160" cy="2752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216080" y="3657600"/>
            <a:ext cx="698400" cy="2759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568920" y="3662280"/>
            <a:ext cx="2340000" cy="2752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241880" y="3486240"/>
            <a:ext cx="2968560" cy="17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rcRect l="0" t="0" r="13565" b="15979"/>
          <a:stretch/>
        </p:blipFill>
        <p:spPr>
          <a:xfrm>
            <a:off x="6570720" y="3494160"/>
            <a:ext cx="2317680" cy="15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220840" y="1817640"/>
            <a:ext cx="1846440" cy="1647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525920" y="1832040"/>
            <a:ext cx="1738440" cy="1633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6964200" y="1844640"/>
            <a:ext cx="1820880" cy="161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rcRect l="0" t="0" r="13565" b="15979"/>
          <a:stretch/>
        </p:blipFill>
        <p:spPr>
          <a:xfrm>
            <a:off x="6551640" y="3500280"/>
            <a:ext cx="2341440" cy="150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7236000" y="115920"/>
            <a:ext cx="1765080" cy="47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735600"/>
            <a:ext cx="2519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Balluff bvba/sprl – Alain Namur – June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19684800">
            <a:off x="7848720" y="2636640"/>
            <a:ext cx="107604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c0c0c0"/>
                </a:solidFill>
                <a:latin typeface="Arial"/>
              </a:rPr>
              <a:t>Coming soon</a:t>
            </a:r>
            <a:endParaRPr b="0" lang="en-US" sz="1400" spc="1" strike="noStrike">
              <a:ln w="0">
                <a:noFill/>
              </a:ln>
              <a:solidFill>
                <a:srgbClr val="c0c0c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149720"/>
            <a:ext cx="2232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4473720"/>
            <a:ext cx="223200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4797360"/>
            <a:ext cx="2232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5157720"/>
            <a:ext cx="2232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5481720"/>
            <a:ext cx="2232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5805360"/>
            <a:ext cx="2232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6129360"/>
            <a:ext cx="2232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19640" y="4149720"/>
            <a:ext cx="22320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9640" y="4473720"/>
            <a:ext cx="22320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19640" y="4834080"/>
            <a:ext cx="22320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19640" y="5157720"/>
            <a:ext cx="2232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9640" y="5481720"/>
            <a:ext cx="2232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19640" y="5805360"/>
            <a:ext cx="2232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19640" y="6129360"/>
            <a:ext cx="2232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4149720"/>
            <a:ext cx="2232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4473720"/>
            <a:ext cx="22320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61080" y="4797360"/>
            <a:ext cx="22320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5157720"/>
            <a:ext cx="2232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49920" y="5481720"/>
            <a:ext cx="22320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5805360"/>
            <a:ext cx="223200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47040" y="6165720"/>
            <a:ext cx="22320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3:56:03Z</dcterms:created>
  <dc:creator>namura</dc:creator>
  <dc:description/>
  <dc:language>en-US</dc:language>
  <cp:lastModifiedBy>namura</cp:lastModifiedBy>
  <dcterms:modified xsi:type="dcterms:W3CDTF">2011-09-09T12:32:46Z</dcterms:modified>
  <cp:revision>65</cp:revision>
  <dc:subject/>
  <dc:title>Diapositive 1</dc:title>
</cp:coreProperties>
</file>